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A84-AF37-42D5-9F95-A5566F87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A2C-CA17-4909-AB9A-01CD6060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A3C-1F4D-43B9-8089-62FA0AC7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16C-936C-4F67-AC56-DB98DD80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F073-E321-4C2C-A325-88A6C1AE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7487-882D-43F9-86BA-F9F024C8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4236-B927-43BD-9E2C-EEB33258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6581-8FD4-4491-9FFA-F61B0EFE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98DC-F45C-43E7-B5B2-EC9A8627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445B-375C-4A59-A19F-C8DB8862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B9D2-C934-4FCA-A280-24766CD6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54B-DAD2-461C-9D77-2B7B9EBC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5904-7CF6-4896-B603-D8C24E70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CEC5-3F4A-4D76-9E1F-E16916B6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5496-53E4-442E-AE7E-C0C463FA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C19B-8FAB-4235-8ED2-60B7B679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1C8F-BC40-4339-923A-5D1C1FDD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B21-F5F5-4C5B-841F-D586AD43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C8E-8779-4A97-818D-727B3993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2D2-7261-4CE1-B510-51FE852C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0BEC-7DAA-4FED-A8D4-10C1DBA5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40A-022E-4AA5-9E6B-51154292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1FC-204F-461F-817F-E0994161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9EA-4293-421E-A32B-9E40F8BB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AF82-E82B-428D-ACC3-F98B0DAC0A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D2A6-A689-44D2-9A6F-5F2D31A44B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rm-Up Sent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od you believe a caterpillar have about 4000 muscles in it’s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fish are sort of weird, they didn’t have scales but they did have whis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urnal #29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the conversation that would occur between a car tire and a street cur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rm-Up Sent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h my brother-in-laws use up tanksful of gas on their jobs, one works for the Int. Rev. Service and the other works at a local branch of the Fed. Housing Adm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hop-till-you-drop urge can become an obsession, and a support group Debtors Anonamous exists and people who have maxed out their credit cards, and morgaged their lives discover that they have plenty of compa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urnal #3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advantages and the disadvantages of having a phone that “shows” the person you are talking 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iday Warm-u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752480"/>
            <a:ext cx="87631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change hate to love in just three steps – that is you can change the wor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to the wor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o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y changing one letter at a time, where each change produces a new wor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ate    have    hove    l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3886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3886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3886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4956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e how many steps it takes you to make the following transformations: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o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a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jump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oo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oo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ar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58:49Z</dcterms:created>
  <dc:creator>tpagel</dc:creator>
  <dc:description/>
  <dc:language>en-US</dc:language>
  <cp:lastModifiedBy>tpagel</cp:lastModifiedBy>
  <dcterms:modified xsi:type="dcterms:W3CDTF">2010-06-03T16:59:21Z</dcterms:modified>
  <cp:revision>1</cp:revision>
  <dc:subject/>
  <dc:title>Warm-Up Sentences</dc:title>
</cp:coreProperties>
</file>